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E291-8D4A-4968-AC2F-42FF73AC2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4E55-8D8A-49A9-A780-05BC0C14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3D6E-6AFE-4040-B357-412C9E1DA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8E6C-F9B5-4EA7-9033-E7685D9ED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FB49C-41D7-4AC8-8611-B358540F0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A3455-4714-4E04-B603-375D8237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BF9B0-4245-4DB2-8F53-865EF9C2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D8BA5-ED65-4CA7-9A81-D499BE67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2BE53-3595-4BB3-B1F3-FB7204F5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55A4D-75D6-42A2-9DEB-18CC6597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65314-F576-4E14-826D-03C3D0A1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6261-C6C6-4B75-A89D-8E1A5522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C723F-AB9A-4E29-BE13-1CD042B9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99517D-7B89-4F59-A0C9-347C8752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32522-983F-4995-9C3B-59A8B4E2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0096F-7A6B-4C01-8F99-E5D2752F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196C7-18CB-4336-BED4-2FC9EFFBD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7191-F4B1-4BCF-9816-CBF6BCC4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8BF1-9FBE-42C8-88BD-30200C77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5081-00EE-4FAF-BD0A-10F5FA52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DAD1-E02A-4F5F-8DE3-6C41E467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C9C5-B11C-4E33-A03C-F1599EBE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E84B-FCDE-4137-94F4-F236E45D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0336-9FC3-4F26-B75B-E87AD626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E1D9-795F-47B7-85A6-790EB2D8B5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D0D1-2AE1-4D6A-8805-AC65ED4634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Genesis 24-25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on 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624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2895480" y="380880"/>
            <a:ext cx="3219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-D View of Israe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-304920" y="246240"/>
            <a:ext cx="9144000" cy="66117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609480" y="3581280"/>
            <a:ext cx="1771920" cy="222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bram'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re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724280" y="3886200"/>
            <a:ext cx="1138320" cy="16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ot'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re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ion 1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is “Good” – 1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mpter –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all of Man –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urses –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uture Plan: “Seed of woman” -3: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pread of Sin – 4-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lood -6-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pread of Nations – 10-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all of Abram –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mis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reat 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lessing To All 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ram and Lot Separate -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ram Rescues Lot – 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’s Covenant With Abram - 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0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2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gar and Ishmael – 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venant of Circumcision – 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itors With Good News and Bad News -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truction of Sodom and Gomorrah -1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raham and Abimelech – 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th of Isaac; Sending Ishmael Away -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raham’s Test of Loyalty -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th of Sarah -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oday’s Less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riage of Isaac and Rebekah -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raham and Keturah – 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raham’s Death -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hmael’s Death – 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95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5T13:54:03Z</dcterms:created>
  <dc:creator>Terry W. Benton</dc:creator>
  <dc:description/>
  <dc:language>en-US</dc:language>
  <cp:lastModifiedBy>Terry W. Benton</cp:lastModifiedBy>
  <dcterms:modified xsi:type="dcterms:W3CDTF">2004-08-25T16:04:18Z</dcterms:modified>
  <cp:revision>3</cp:revision>
  <dc:subject/>
  <dc:title>Genesis 24-25</dc:title>
</cp:coreProperties>
</file>